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0970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2657-0224-4782-A32C-F869C5E9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C329-8447-44B8-9432-2CC482D4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74A7-C372-4711-990D-6C2FB428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D45-23B1-40D6-8CD3-B5CAC690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E56-4A65-4BE9-8D6C-664447B7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EA90-945E-49B8-B552-C7DDDCBB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593-CDDB-43AB-B5CC-40A6DF9F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EDAB-AD45-4B39-85B4-CC871DE6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BC8-070F-4DCA-9C68-E0C20EE0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0C2-B995-46C4-99A0-3E2A7613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021-501B-4906-9036-EB1EC474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65A4-2905-4A79-8800-00E680B4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C9F4C125-B80C-4F28-8BE6-569E8837F1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92976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.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33206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446328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488268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4158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 Secretariat Comisie pentru Protecti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piluluii si anchete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46288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sitenţă şi sprijin pentru protecţia şi promovarea drepturilor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3" idx="2"/>
            <a:endCxn id="61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rot="5400000">
            <a:off x="5378760" y="3169440"/>
            <a:ext cx="633600" cy="1908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200400" y="5623200"/>
            <a:ext cx="182880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54 / 1 /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1"/>
            <a:endCxn id="76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65" idx="1"/>
            <a:endCxn id="78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660924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65" idx="1"/>
            <a:endCxn id="80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5" idx="1"/>
            <a:endCxn id="81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5" idx="1"/>
            <a:endCxn id="82" idx="1"/>
          </p:cNvCxnSpPr>
          <p:nvPr/>
        </p:nvCxnSpPr>
        <p:spPr>
          <a:xfrm flipH="1" rot="16200000">
            <a:off x="6476760" y="6019920"/>
            <a:ext cx="1181880" cy="191160"/>
          </a:xfrm>
          <a:prstGeom prst="bentConnector4">
            <a:avLst>
              <a:gd name="adj1" fmla="val 46160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20920" y="412056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3 / 1 /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55" idx="3"/>
            <a:endCxn id="86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55" idx="3"/>
            <a:endCxn id="87" idx="3"/>
          </p:cNvCxnSpPr>
          <p:nvPr/>
        </p:nvCxnSpPr>
        <p:spPr>
          <a:xfrm>
            <a:off x="14935320" y="2757240"/>
            <a:ext cx="304920" cy="1582200"/>
          </a:xfrm>
          <a:prstGeom prst="bentConnector3">
            <a:avLst>
              <a:gd name="adj1" fmla="val 1761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55" idx="3"/>
            <a:endCxn id="88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61 / 1 / 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-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29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394344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71 / 1 / 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4467240" y="7572240"/>
            <a:ext cx="1371600" cy="40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49910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89 / 1 / 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56959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86 / 3 / 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 pentru copilul repatriat,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17 / 1 /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354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 rot="16200000">
            <a:off x="3352680" y="92962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4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5438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35  / 1 3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69343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26 / 1 / 25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21036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22/ 1 / 21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05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06" name=""/>
          <p:cNvSpPr/>
          <p:nvPr/>
        </p:nvSpPr>
        <p:spPr>
          <a:xfrm rot="16200000">
            <a:off x="95058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10115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051560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63  / 1  / 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110109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98 / 1 / 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23062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ca Nr.1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137923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86 / 1 / 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30200" y="8644320"/>
            <a:ext cx="243828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= </a:t>
            </a:r>
            <a:r>
              <a:rPr b="1" i="1" lang="en-US" sz="800" spc="-1" strike="noStrike">
                <a:solidFill>
                  <a:srgbClr val="cc3300"/>
                </a:solidFill>
                <a:latin typeface="Arial Narrow"/>
              </a:rPr>
              <a:t>15 posturi  ce vor fi preluate de cele 5 primarii, conform proiectelor PHAREi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1"/>
            <a:endCxn id="117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1"/>
            <a:endCxn id="118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12192120" y="5715360"/>
            <a:ext cx="1600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81532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de interventie in regim de urgenta   - Telefonul copilului  si telefonul adultului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53" idx="2"/>
            <a:endCxn id="66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78487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 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67300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rograme, Pproiecte, Strategii Integrare Europe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47" idx="1"/>
            <a:endCxn id="126" idx="1"/>
          </p:cNvCxnSpPr>
          <p:nvPr/>
        </p:nvCxnSpPr>
        <p:spPr>
          <a:xfrm flipV="1" rot="10800000">
            <a:off x="1218960" y="1939320"/>
            <a:ext cx="6515280" cy="101304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1219320" y="579420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60199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1629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33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90295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293364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3300"/>
                </a:solidFill>
                <a:latin typeface="Arial Narrow"/>
              </a:rPr>
              <a:t>44 / 1 / 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734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2781360" y="94107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1583200">
            <a:off x="11353320" y="944676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***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Milcoi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54 1 /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01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210680" y="6858000"/>
            <a:ext cx="4267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52520" y="57150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59092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505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64771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51560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97000" y="537120"/>
            <a:ext cx="974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249520" y="761040"/>
            <a:ext cx="129528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Protectia Copilului 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5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249520" y="213840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7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6858000"/>
            <a:ext cx="8380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8763120"/>
            <a:ext cx="1143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876312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876312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9082080"/>
            <a:ext cx="12956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9219960" y="6858000"/>
            <a:ext cx="9903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 3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3880" y="8610480"/>
            <a:ext cx="19051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3880" y="861048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3880" y="906768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249520" y="1134360"/>
            <a:ext cx="129528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 AMP                                                            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8551800"/>
            <a:ext cx="26668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dapost temporar pt. copilul din st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8781120"/>
            <a:ext cx="14475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rezident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consiliere si orientare 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 si integrare socio-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integrare/reintegrare famil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/dezvoltare a deprinderilor de viata independ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990360" y="861048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861048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98298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95248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92962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9067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8915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1304928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caNr.2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59 / 1 / 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21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9486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entru persoane virst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st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67 / 1 / 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7534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876312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2247840" y="94107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entru victime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violentei i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cc"/>
                </a:solidFill>
                <a:latin typeface="Arial Narrow"/>
              </a:rPr>
              <a:t>( 10/ 1 / 9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861048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200400" y="8610480"/>
            <a:ext cx="76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86600" y="5562720"/>
            <a:ext cx="18288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563868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62920" y="556308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terventie in regim de urgenta pentru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972800" y="10134360"/>
            <a:ext cx="220968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29628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420720" y="556272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2133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85345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criza si respi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15  / 1  /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79246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de primire in regim de urgent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15  / 1 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448920" y="495288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829800" y="4952880"/>
            <a:ext cx="0" cy="18288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77320" y="678168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6104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8534520"/>
            <a:ext cx="15242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534520" y="85345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534520" y="8839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848360" y="6781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87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3633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491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7349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207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6120" y="30481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296280" y="3276720"/>
            <a:ext cx="31244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39084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l de recuper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t.copil cu dizabilitati 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3300"/>
                </a:solidFill>
                <a:latin typeface="Arial Narrow"/>
              </a:rPr>
              <a:t>17 / 1 /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48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1028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2203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99820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Bist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21 / 1 / 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744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0120" y="3276720"/>
            <a:ext cx="14475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8610480" y="67816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848720" y="678168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24480" y="55627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06768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6858000"/>
            <a:ext cx="3429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6858000"/>
            <a:ext cx="1371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198720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 informatica in  domeniul asist.sociale si prot.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625428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449568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4572000"/>
            <a:ext cx="76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4572000"/>
            <a:ext cx="0" cy="20574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714640" y="64771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714640" y="6629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324480" y="54864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049120" y="548640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049120" y="6705720"/>
            <a:ext cx="3809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392520" y="6705720"/>
            <a:ext cx="0" cy="19047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21538800">
            <a:off x="11353680" y="8837640"/>
            <a:ext cx="13701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***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eabilitare Govo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24 /  1 / 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0302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859000" y="6705720"/>
            <a:ext cx="3049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782680" y="8610480"/>
            <a:ext cx="6098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087600" y="8610480"/>
            <a:ext cx="7632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163920" y="6705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82080" y="9149760"/>
            <a:ext cx="121932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***Centrele Milcoiu  si Govora vor functiona dupa inchidrea centrului Paus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Pausesti Magla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76 /  1 / 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81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268080" y="84582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268080" y="8686800"/>
            <a:ext cx="6098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877920" y="8686800"/>
            <a:ext cx="0" cy="9144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2725280" y="899172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2725280" y="960120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877920" y="759240"/>
            <a:ext cx="121896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Aparat Propriu     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877920" y="1292400"/>
            <a:ext cx="121896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Asistenta Sociala -Adulti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67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249520" y="1680840"/>
            <a:ext cx="1218960" cy="34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ingrijitori la domiciliu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Win98</cp:lastModifiedBy>
  <cp:lastPrinted>2007-05-22T09:28:48Z</cp:lastPrinted>
  <dcterms:modified xsi:type="dcterms:W3CDTF">2007-05-22T12:36:45Z</dcterms:modified>
  <cp:revision>153</cp:revision>
  <dc:subject/>
  <dc:title>No Slide Title</dc:title>
</cp:coreProperties>
</file>